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1407-26D0-4D14-BB3C-66C96019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FF2A-8B93-4A28-BAB9-870FA418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DBEF-75E6-46BB-8EB5-7F3164D96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FC51-C754-4164-A572-226BDCFD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CF6E-6FFE-4F1C-83F7-97ED7279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F365-4E5B-4F7C-B1CE-7989C7D6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3EC0-56FD-44D1-872E-F12DD5E2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A4CC-E1AB-4EB2-8AC7-C1378560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6D0A-F499-4F48-9DA6-D3626C04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9E3D-732D-4F4A-8260-DAB473F8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8597-4681-48AC-8DDC-5774BD16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205B-C479-4C3D-A4EC-B4547A4D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AF0E-7A28-49A6-98D1-F0CA321F9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755640" y="549360"/>
            <a:ext cx="4408560" cy="24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W.A.L.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042920" y="3068640"/>
            <a:ext cx="734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Rockwell Extra Bold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Rockwell Extra Bold"/>
              </a:rPr>
              <a:t>Use the language of prob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Rockwell Extra Bold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Rockwell Extra Bold"/>
              </a:rPr>
              <a:t>To express probability as a 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Stencil"/>
              </a:rPr>
              <a:t>What is the probability of the following events happening and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468360" y="3429000"/>
            <a:ext cx="822960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539640" y="2565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t snowing tomorr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324000" y="35002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 winning the lottery this week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395280" y="4581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 watching T.V toni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395280" y="5516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t being your 3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birthday tomorr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8960" y="190512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tencil"/>
              </a:rPr>
              <a:t>Can you think of any events which are equally likely to hap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tencil"/>
              </a:rPr>
              <a:t>How about…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you toss a coin you have an equal chance of getting a head or a tai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 baby is born it has an equal chance of being a boy or a gir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you roll a dice you have an equal chance of getting the number 1, 2, 3, 4, 5 or 6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coin"/>
          <p:cNvPicPr/>
          <p:nvPr/>
        </p:nvPicPr>
        <p:blipFill>
          <a:blip r:embed="rId1"/>
          <a:stretch/>
        </p:blipFill>
        <p:spPr>
          <a:xfrm>
            <a:off x="7596360" y="1989000"/>
            <a:ext cx="838080" cy="820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PE02287_"/>
          <p:cNvPicPr/>
          <p:nvPr/>
        </p:nvPicPr>
        <p:blipFill>
          <a:blip r:embed="rId2"/>
          <a:stretch/>
        </p:blipFill>
        <p:spPr>
          <a:xfrm>
            <a:off x="6156360" y="3573360"/>
            <a:ext cx="1333440" cy="1022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dice"/>
          <p:cNvPicPr/>
          <p:nvPr/>
        </p:nvPicPr>
        <p:blipFill>
          <a:blip r:embed="rId3"/>
          <a:stretch/>
        </p:blipFill>
        <p:spPr>
          <a:xfrm>
            <a:off x="4191120" y="5638680"/>
            <a:ext cx="8380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2050920" y="333360"/>
            <a:ext cx="4392720" cy="11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Impact"/>
              </a:rPr>
              <a:t>Tas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Impact"/>
              <a:ea typeface="Impact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11280" y="1773360"/>
            <a:ext cx="79930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your book draw a circle with a radius of 5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a protractor to divide the circle into 6 equal s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a ruler to join the sections together where they meet the edge of the cir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ub out the remaining circle li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ou should have a spinn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6"/>
          <p:cNvSpPr/>
          <p:nvPr/>
        </p:nvSpPr>
        <p:spPr>
          <a:xfrm>
            <a:off x="6156360" y="4581360"/>
            <a:ext cx="2016000" cy="172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7164360" y="458136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 flipH="1">
            <a:off x="6443280" y="4869000"/>
            <a:ext cx="151308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0"/>
          <p:cNvSpPr/>
          <p:nvPr/>
        </p:nvSpPr>
        <p:spPr>
          <a:xfrm flipH="1" flipV="1">
            <a:off x="6156360" y="5157360"/>
            <a:ext cx="1944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1"/>
          <p:cNvSpPr/>
          <p:nvPr/>
        </p:nvSpPr>
        <p:spPr>
          <a:xfrm flipV="1">
            <a:off x="6227640" y="4581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6227640" y="5157720"/>
            <a:ext cx="216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6443640" y="602136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7093080" y="4581360"/>
            <a:ext cx="86364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7956720" y="4941720"/>
            <a:ext cx="144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6"/>
          <p:cNvSpPr/>
          <p:nvPr/>
        </p:nvSpPr>
        <p:spPr>
          <a:xfrm flipH="1">
            <a:off x="7164360" y="5734080"/>
            <a:ext cx="93672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8"/>
          <p:cNvSpPr/>
          <p:nvPr/>
        </p:nvSpPr>
        <p:spPr>
          <a:xfrm rot="20821200">
            <a:off x="3492360" y="5660640"/>
            <a:ext cx="2303640" cy="576360"/>
          </a:xfrm>
          <a:prstGeom prst="rightArrow">
            <a:avLst>
              <a:gd name="adj1" fmla="val 50000"/>
              <a:gd name="adj2" fmla="val 999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24000" y="404640"/>
            <a:ext cx="84247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w write the numbers 1, 2 or 3 in the sections of your spi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rite 5 statements about your spinner that show that you can use the language of probability or express probability as a 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611280" y="3860640"/>
            <a:ext cx="820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Rockwell Extra Bold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Rockwell Extra Bold"/>
              </a:rPr>
              <a:t>Swap books with your partner.  Write a  comment about how well you think they’ve met today’s learning objective.  Explain why you think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611280" y="333360"/>
            <a:ext cx="4408560" cy="24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W.A.L.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619280" y="2421000"/>
            <a:ext cx="734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ckwell Extra Bold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Rockwell Extra Bold"/>
              </a:rPr>
              <a:t>Use the language of prob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ckwell Extra Bold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Rockwell Extra Bold"/>
              </a:rPr>
              <a:t>To express probability as a f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5:21:50Z</dcterms:created>
  <dc:creator>Simon Bacon</dc:creator>
  <dc:description/>
  <dc:language>en-US</dc:language>
  <cp:lastModifiedBy>HELEN</cp:lastModifiedBy>
  <dcterms:modified xsi:type="dcterms:W3CDTF">2016-10-28T22:55:23Z</dcterms:modified>
  <cp:revision>4</cp:revision>
  <dc:subject/>
  <dc:title>Slide 1</dc:title>
</cp:coreProperties>
</file>